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whoosh.wav" ContentType="audio/x-wav"/>
  <Override PartName="/ppt/media/image8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coin.wav" ContentType="audio/x-wav"/>
  <Override PartName="/ppt/media/image11.png" ContentType="image/png"/>
  <Override PartName="/ppt/media/wind.wav" ContentType="audio/x-wav"/>
  <Override PartName="/ppt/media/explode.wav" ContentType="audio/x-wav"/>
  <Override PartName="/ppt/media/image7.jpeg" ContentType="image/jpeg"/>
  <Override PartName="/ppt/media/camera.wav" ContentType="audio/x-wav"/>
  <Override PartName="/ppt/media/image9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cashreg.wav" ContentType="audio/x-wav"/>
  <Override PartName="/ppt/media/hamm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FF0-9472-4977-953E-3C32285E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61E-8C99-471C-8D42-40EE491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693-0046-46A4-B773-1C38626E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DE1-5BBB-429F-8507-A56047A5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334C-D962-4EA2-B574-68E1F44E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7E26-3B48-4D0D-A21B-B215A25F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C33-DB30-4A7C-B620-09A153D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C0E1-1E08-446D-8FE1-239CC11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5E30-A9D2-4874-9E41-FB709B0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0F1E-FC90-4684-8E2B-5EC1C7A8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4C01-F929-49EF-9ED9-32A59646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DD8-33AE-4BBB-9C00-2740918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6041-1973-4161-828A-64F56E0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CA3A-ABA2-40F8-9C80-BEC700C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754-5A5A-416D-883D-4DB71AC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AE18-D1FD-443B-97D6-1382F46F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604A-78C5-45C7-A477-843D0235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D96-2660-4103-927D-8E86334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154-43E7-46D0-8492-DE294422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A44-18A8-4CE8-A521-9D6A39F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5E8-855B-4FD3-A4D9-8214E1E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2EA-6598-41EB-AB26-3A75A8E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8C4-02E7-4C29-AA22-6396BF3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422-7C79-404B-B0DD-D535C08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3970-5EB4-4D8C-8DA6-4EA1C9B4C94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EEB3-FF9B-4484-A802-391E7A51096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Year was i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Diana Kolaszews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5000">
    <p:comb dir="vert"/>
    <p:sndAc>
      <p:stSnd>
        <p:snd r:embed="rId1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362320"/>
            <a:ext cx="114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D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m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b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53080" y="4038120"/>
            <a:ext cx="24386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Bingo was first played in North Americ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mb dir="vert"/>
    <p:sndAc>
      <p:stSnd>
        <p:snd r:embed="rId2" name="coin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7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7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66"/>
            </a:gs>
            <a:gs pos="100000">
              <a:srgbClr val="75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1244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ge Italic"/>
              </a:rPr>
              <a:t>January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42667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nes Gonxha Bojaxhiu Ans, later known as Mother Theresa, starts her missionary work among the poorest people in Ind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mb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b4246"/>
            </a:gs>
            <a:gs pos="50000">
              <a:srgbClr val="3c919a"/>
            </a:gs>
            <a:gs pos="100000">
              <a:srgbClr val="1b42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914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FEB  R UA R 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8800" y="38088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. Valentines Day Massacre-7 gangsters killed in Chica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etition between gangster rivals Al "Scarface" Capone and George "Bugs" Mor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11812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  <p:sndAc>
      <p:stSnd>
        <p:snd r:embed="rId2" name="explod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rohibi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800600" y="35049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It was the law, no alcohol at all!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mb dir="vert"/>
    <p:sndAc>
      <p:stSnd>
        <p:snd r:embed="rId2" name="hamme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8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4bbe"/>
            </a:gs>
            <a:gs pos="100000">
              <a:srgbClr val="af27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f273e"/>
                </a:solidFill>
                <a:latin typeface="Forte"/>
              </a:rPr>
              <a:t>March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410080" y="2742840"/>
            <a:ext cx="3200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rbert Hoover inaugurated as 3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presid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4000320" cy="3809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d"/>
    <p:sndAc>
      <p:stSnd>
        <p:snd r:embed="rId2" name="applause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24480" y="838080"/>
            <a:ext cx="2362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3a6448"/>
                </a:solidFill>
                <a:uFillTx/>
                <a:latin typeface="Eurostile"/>
              </a:rPr>
              <a:t>April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 Yankees become the first baseball team to wear uniform numb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abe Ruth was #3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495680" cy="3530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horz"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indefinite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8120" y="51055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514195"/>
                </a:solidFill>
                <a:latin typeface="Castellar"/>
              </a:rPr>
              <a:t>May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irst Academy Awards ceremony was held in Hollywoo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029200" cy="308952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d"/>
    <p:sndAc>
      <p:stSnd>
        <p:snd r:embed="rId3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560" y="57913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ugu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irship flight around Earth was completed by Graf Zeppelin from German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8000">
    <p:comb dir="vert"/>
    <p:sndAc>
      <p:stSnd>
        <p:snd r:embed="rId2" name="wind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ctober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ack Tues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7010280" cy="30481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ock Market Crashes and Triggers The Great Depress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0">
    <p:cover dir="d"/>
    <p:sndAc>
      <p:stSnd>
        <p:snd r:embed="rId3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8:09Z</dcterms:created>
  <dc:creator>Owner</dc:creator>
  <dc:description/>
  <dc:language>en-US</dc:language>
  <cp:lastModifiedBy>Owner</cp:lastModifiedBy>
  <dcterms:modified xsi:type="dcterms:W3CDTF">2011-10-05T02:59:45Z</dcterms:modified>
  <cp:revision>10</cp:revision>
  <dc:subject/>
  <dc:title>What Year was it?</dc:title>
</cp:coreProperties>
</file>